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BFA2-339A-4435-AD03-CFE79BE7A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4CA2-9359-4CF0-A82C-F7A12950A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3DA7-E39F-4554-B2EF-2BB291DEC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DA19-7172-44A3-AB0E-9171727BD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0C94-74E8-412E-940C-E3AE7F6D7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563B-15FB-4F81-9B24-91CBE1048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29FA-7EE1-4BD1-B5CA-C2A482FD7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2935-AE7C-4B61-9D72-FCF0B23DA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F103-CD52-4207-9133-63523A47D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7661-CAF4-4289-9386-E01AC99E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6B5E-2883-4566-B60E-7846E969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C4D4-309A-4D3A-81BA-41862A10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FFAAD-C894-40FC-AE8C-F1C72F929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5th July 194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447920"/>
            <a:ext cx="3570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tional Health Service (NHS) is founded in Britain, for the first time providing free health care for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6172200"/>
            <a:ext cx="277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Mr. Wright, 7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114800" y="1676520"/>
            <a:ext cx="480060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6T03:05:20Z</dcterms:created>
  <dc:creator>Dulwich</dc:creator>
  <dc:description/>
  <dc:language>en-US</dc:language>
  <cp:lastModifiedBy>Dulwich</cp:lastModifiedBy>
  <dcterms:modified xsi:type="dcterms:W3CDTF">2007-11-16T03:14:24Z</dcterms:modified>
  <cp:revision>1</cp:revision>
  <dc:subject/>
  <dc:title>PowerPoint Presentation</dc:title>
</cp:coreProperties>
</file>